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1440" y="-360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360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-1440" y="881352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52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i="1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E94DD9F-8334-4F96-BB1A-5C372AD97BAF}" type="slidenum">
              <a:rPr b="0" i="1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Img"/>
          </p:nvPr>
        </p:nvSpPr>
        <p:spPr>
          <a:xfrm>
            <a:off x="1801440" y="480960"/>
            <a:ext cx="317196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63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2840" bIns="4284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09480" y="2581200"/>
            <a:ext cx="6796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E5F3E3A-8BAD-4DCD-B3C7-CF8E9CC0271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235257A-F093-4E19-99FC-71A9E77F9B2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6FE447C-E2FB-4DC8-B2B6-0FB36BD93D01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98B61B1-3179-4B01-83AE-EAB6FB325645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78548E6-BB1E-4BF0-B308-421597C048E1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F594B0E-D0B6-44CD-8487-2F0D43773A3E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4EC16E0-87AD-47AD-B9A2-A3E8CC2CFAAC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1A326DF-C26E-4D2C-A0FC-17A81442872A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1895478-8D71-43E4-806F-1479E3226FED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C9A8B44-11FB-4D00-8181-AE6CF05011AF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51D7261-D06D-410D-BDE2-44CFB8C41288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7FBB916-7DD1-4287-AD64-1965F2201F07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B4DB2FF-66F2-45C4-9C78-DA15518B7B76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6E66ED-863A-4D54-AE1F-E0294E7CFE60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E4C2EA-3EF4-48F9-8E75-569BB5FD4A73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828800" y="501480"/>
            <a:ext cx="3119400" cy="2340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A121F88-E249-496F-8575-AF489B7139E8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DB43290-2100-494B-B5B5-F047B8986D69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18DFED0-9F72-4575-B2C4-1721803FDD65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85828CC-4375-45B8-8570-1D0014BDDE79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585720" y="2835000"/>
            <a:ext cx="5832720" cy="58971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978200" y="612720"/>
            <a:ext cx="2819160" cy="2114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3B3F633-E87B-474B-B169-BFB7E2260210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801800" y="480960"/>
            <a:ext cx="3171960" cy="23781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76360" y="2830320"/>
            <a:ext cx="5850000" cy="5898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962520" y="8813880"/>
            <a:ext cx="3031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E10FDC4-3A88-4E1A-8696-E406235F7AFB}" type="slidenum">
              <a:rPr b="0" i="1" lang="en-US" sz="10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825560" y="498600"/>
            <a:ext cx="3121200" cy="2340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0000" cy="58968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B5269CF-BA60-4C49-9438-438BF1CB467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1142B6D4-A5CF-4B7E-A136-0A21ED3E44D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1120" y="90144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for Engineers: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Part I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utorial: Using PROBE with the Student Workbook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139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ystem should contain an event manager that can register, unregister, and dispatch events.  The event manager maps events to event handl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ystem should contain one event handler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s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at will output the system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possible 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1345680" y="2562120"/>
            <a:ext cx="6198120" cy="2873520"/>
            <a:chOff x="1345680" y="2562120"/>
            <a:chExt cx="6198120" cy="2873520"/>
          </a:xfrm>
        </p:grpSpPr>
        <p:sp>
          <p:nvSpPr>
            <p:cNvPr id="213" name="Arc 2"/>
            <p:cNvSpPr/>
            <p:nvPr/>
          </p:nvSpPr>
          <p:spPr>
            <a:xfrm>
              <a:off x="5219640" y="2913120"/>
              <a:ext cx="1676520" cy="13334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</a:path>
                <a:path stroke="0" w="21600" h="21600">
                  <a:moveTo>
                    <a:pt x="19" y="0"/>
                  </a:moveTo>
                  <a:cubicBezTo>
                    <a:pt x="11941" y="11"/>
                    <a:pt x="21600" y="9678"/>
                    <a:pt x="21600" y="21600"/>
                  </a:cubicBezTo>
                  <a:lnTo>
                    <a:pt x="0" y="21600"/>
                  </a:lnTo>
                  <a:lnTo>
                    <a:pt x="19" y="0"/>
                  </a:lnTo>
                  <a:close/>
                </a:path>
              </a:pathLst>
            </a:custGeom>
            <a:noFill/>
            <a:ln cap="rnd"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Oval 5"/>
            <p:cNvSpPr/>
            <p:nvPr/>
          </p:nvSpPr>
          <p:spPr>
            <a:xfrm>
              <a:off x="2324160" y="2562120"/>
              <a:ext cx="4140000" cy="7621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Oval 6"/>
            <p:cNvSpPr/>
            <p:nvPr/>
          </p:nvSpPr>
          <p:spPr>
            <a:xfrm>
              <a:off x="6324480" y="4254480"/>
              <a:ext cx="1219320" cy="118116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Rectangle 7"/>
            <p:cNvSpPr/>
            <p:nvPr/>
          </p:nvSpPr>
          <p:spPr>
            <a:xfrm>
              <a:off x="3604680" y="2782800"/>
              <a:ext cx="163728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manage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6479280" y="4701960"/>
              <a:ext cx="9396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ystim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Arc 9"/>
            <p:cNvSpPr/>
            <p:nvPr/>
          </p:nvSpPr>
          <p:spPr>
            <a:xfrm>
              <a:off x="1806480" y="3060720"/>
              <a:ext cx="1346040" cy="1320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48"/>
                  </a:moveTo>
                  <a:cubicBezTo>
                    <a:pt x="28" y="9648"/>
                    <a:pt x="9675" y="13"/>
                    <a:pt x="21575" y="0"/>
                  </a:cubicBezTo>
                </a:path>
                <a:path stroke="0" w="21600" h="21600">
                  <a:moveTo>
                    <a:pt x="0" y="21548"/>
                  </a:moveTo>
                  <a:cubicBezTo>
                    <a:pt x="28" y="9648"/>
                    <a:pt x="9675" y="13"/>
                    <a:pt x="21575" y="0"/>
                  </a:cubicBezTo>
                  <a:lnTo>
                    <a:pt x="21600" y="21600"/>
                  </a:lnTo>
                  <a:lnTo>
                    <a:pt x="0" y="21548"/>
                  </a:lnTo>
                  <a:close/>
                </a:path>
              </a:pathLst>
            </a:custGeom>
            <a:noFill/>
            <a:ln cap="rnd" w="25560">
              <a:solidFill>
                <a:srgbClr val="cccc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Rectangle 10"/>
            <p:cNvSpPr/>
            <p:nvPr/>
          </p:nvSpPr>
          <p:spPr>
            <a:xfrm>
              <a:off x="5403600" y="3549600"/>
              <a:ext cx="111924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"/>
                </a:rPr>
                <a:t>PrintTim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11"/>
            <p:cNvSpPr/>
            <p:nvPr/>
          </p:nvSpPr>
          <p:spPr>
            <a:xfrm>
              <a:off x="1345680" y="4478400"/>
              <a:ext cx="1107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Arial"/>
                </a:rPr>
                <a:t>Control-P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013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two objects in the conceptual desig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assume that we have a list object in our library.  We’ll come back to thi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xt step is to identify and classify each new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is example, the new objects are the event manager and the event handl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Identific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6560" y="1450800"/>
            <a:ext cx="7550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begin with the event manag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’ll select the logic (L) type category for this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stimate the relative size of the object.  We’ll us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is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, we need to get the historical LOC/method for this type and size of ob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Size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determine that there are three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er_ev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gister_ev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atch_even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table fro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sheet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at th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will contai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 LOC. 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3" descr=""/>
          <p:cNvPicPr/>
          <p:nvPr/>
        </p:nvPicPr>
        <p:blipFill>
          <a:blip r:embed="rId1"/>
          <a:stretch/>
        </p:blipFill>
        <p:spPr>
          <a:xfrm>
            <a:off x="3676680" y="285120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ntering the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95240" y="1441440"/>
            <a:ext cx="75535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for the event manager is entered on the size estimating template.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549440" y="2233440"/>
            <a:ext cx="6032520" cy="4273560"/>
          </a:xfrm>
          <a:prstGeom prst="rect">
            <a:avLst/>
          </a:prstGeom>
          <a:ln w="0">
            <a:noFill/>
          </a:ln>
        </p:spPr>
      </p:pic>
      <p:sp>
        <p:nvSpPr>
          <p:cNvPr id="231" name="Arc 5"/>
          <p:cNvSpPr/>
          <p:nvPr/>
        </p:nvSpPr>
        <p:spPr>
          <a:xfrm flipH="1">
            <a:off x="2455920" y="1971720"/>
            <a:ext cx="3168720" cy="3625920"/>
          </a:xfrm>
          <a:custGeom>
            <a:avLst/>
            <a:gdLst/>
            <a:ahLst/>
            <a:rect l="l" t="t" r="r" b="b"/>
            <a:pathLst>
              <a:path fill="none" w="21580" h="20650">
                <a:moveTo>
                  <a:pt x="15245" y="20650"/>
                </a:moveTo>
                <a:cubicBezTo>
                  <a:pt x="6499" y="17967"/>
                  <a:pt x="391" y="10065"/>
                  <a:pt x="-1" y="925"/>
                </a:cubicBezTo>
              </a:path>
              <a:path stroke="0" w="21580" h="20650">
                <a:moveTo>
                  <a:pt x="15245" y="20650"/>
                </a:moveTo>
                <a:cubicBezTo>
                  <a:pt x="6499" y="17967"/>
                  <a:pt x="391" y="10065"/>
                  <a:pt x="-1" y="925"/>
                </a:cubicBezTo>
                <a:lnTo>
                  <a:pt x="21580" y="0"/>
                </a:lnTo>
                <a:lnTo>
                  <a:pt x="15245" y="2065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Identific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ing to the event handler, we determine that there are are also three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ister_sys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t_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t_tim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again us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r historic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at thi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will contai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8 LOC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3578400" y="289260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otal New Object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87320" y="1459080"/>
            <a:ext cx="2633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for the event handler object is entered on the size estimating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total new object LOC is calcula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11" descr=""/>
          <p:cNvPicPr/>
          <p:nvPr/>
        </p:nvPicPr>
        <p:blipFill>
          <a:blip r:embed="rId1"/>
          <a:stretch/>
        </p:blipFill>
        <p:spPr>
          <a:xfrm>
            <a:off x="3527280" y="1235160"/>
            <a:ext cx="5429520" cy="5067360"/>
          </a:xfrm>
          <a:prstGeom prst="rect">
            <a:avLst/>
          </a:prstGeom>
          <a:ln w="0">
            <a:noFill/>
          </a:ln>
        </p:spPr>
      </p:pic>
      <p:sp>
        <p:nvSpPr>
          <p:cNvPr id="238" name="Line 13"/>
          <p:cNvSpPr/>
          <p:nvPr/>
        </p:nvSpPr>
        <p:spPr>
          <a:xfrm>
            <a:off x="2444760" y="4346640"/>
            <a:ext cx="4660920" cy="12636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3048120" y="2768760"/>
            <a:ext cx="1396800" cy="1765080"/>
          </a:xfrm>
          <a:prstGeom prst="line">
            <a:avLst/>
          </a:prstGeom>
          <a:ln w="25560">
            <a:solidFill>
              <a:srgbClr val="3399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2660760" y="4127400"/>
            <a:ext cx="787320" cy="247680"/>
            <a:chOff x="2660760" y="4127400"/>
            <a:chExt cx="787320" cy="247680"/>
          </a:xfrm>
        </p:grpSpPr>
        <p:sp>
          <p:nvSpPr>
            <p:cNvPr id="241" name="Rectangle 4"/>
            <p:cNvSpPr/>
            <p:nvPr/>
          </p:nvSpPr>
          <p:spPr>
            <a:xfrm>
              <a:off x="2660760" y="412740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3060720" y="412740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4241880" y="4464000"/>
            <a:ext cx="786960" cy="247680"/>
            <a:chOff x="4241880" y="4464000"/>
            <a:chExt cx="786960" cy="247680"/>
          </a:xfrm>
        </p:grpSpPr>
        <p:sp>
          <p:nvSpPr>
            <p:cNvPr id="244" name="Rectangle 7"/>
            <p:cNvSpPr/>
            <p:nvPr/>
          </p:nvSpPr>
          <p:spPr>
            <a:xfrm>
              <a:off x="4241880" y="4464000"/>
              <a:ext cx="38700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641840" y="4464000"/>
              <a:ext cx="38700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46" name="Group 9"/>
          <p:cNvGrpSpPr/>
          <p:nvPr/>
        </p:nvGrpSpPr>
        <p:grpSpPr>
          <a:xfrm>
            <a:off x="5740560" y="4807080"/>
            <a:ext cx="787320" cy="247680"/>
            <a:chOff x="5740560" y="4807080"/>
            <a:chExt cx="787320" cy="247680"/>
          </a:xfrm>
        </p:grpSpPr>
        <p:sp>
          <p:nvSpPr>
            <p:cNvPr id="247" name="Rectangle 10"/>
            <p:cNvSpPr/>
            <p:nvPr/>
          </p:nvSpPr>
          <p:spPr>
            <a:xfrm>
              <a:off x="5740560" y="480708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Rectangle 11"/>
            <p:cNvSpPr/>
            <p:nvPr/>
          </p:nvSpPr>
          <p:spPr>
            <a:xfrm>
              <a:off x="6140520" y="4807080"/>
              <a:ext cx="387360" cy="247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249" name="Rectangle 12"/>
          <p:cNvSpPr/>
          <p:nvPr/>
        </p:nvSpPr>
        <p:spPr>
          <a:xfrm>
            <a:off x="1812960" y="3903840"/>
            <a:ext cx="477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Arial"/>
              </a:rPr>
              <a:t>lis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Arc 13"/>
          <p:cNvSpPr/>
          <p:nvPr/>
        </p:nvSpPr>
        <p:spPr>
          <a:xfrm>
            <a:off x="2235240" y="4056120"/>
            <a:ext cx="62244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Arc 14"/>
          <p:cNvSpPr/>
          <p:nvPr/>
        </p:nvSpPr>
        <p:spPr>
          <a:xfrm>
            <a:off x="3244680" y="4259160"/>
            <a:ext cx="1213200" cy="285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Arc 15"/>
          <p:cNvSpPr/>
          <p:nvPr/>
        </p:nvSpPr>
        <p:spPr>
          <a:xfrm>
            <a:off x="4838760" y="4595760"/>
            <a:ext cx="110484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25560">
            <a:solidFill>
              <a:srgbClr val="cc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16"/>
          <p:cNvSpPr/>
          <p:nvPr/>
        </p:nvSpPr>
        <p:spPr>
          <a:xfrm flipH="1">
            <a:off x="6143400" y="4809960"/>
            <a:ext cx="384120" cy="24480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ould like to maintain a list of registered event handlers and the events to which they respo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have existing code that does everything we need, except that it was written for integ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06040" y="144000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determine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size = 48 (measur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deleted = 0 (estima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modified = 12 (estimat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lso want to add a method to search for an existing event handler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obje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, w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is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5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3095640" y="3392640"/>
            <a:ext cx="5046480" cy="24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e Cod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9640" y="1474560"/>
            <a:ext cx="4043520" cy="4351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record our estimate of base code he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base addition is recorded he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also determine that we will not use any objects from our reuse libr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nter these data now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034" descr=""/>
          <p:cNvPicPr/>
          <p:nvPr/>
        </p:nvPicPr>
        <p:blipFill>
          <a:blip r:embed="rId1"/>
          <a:stretch/>
        </p:blipFill>
        <p:spPr>
          <a:xfrm>
            <a:off x="5087880" y="1130400"/>
            <a:ext cx="3878280" cy="5413320"/>
          </a:xfrm>
          <a:prstGeom prst="rect">
            <a:avLst/>
          </a:prstGeom>
          <a:ln w="0">
            <a:noFill/>
          </a:ln>
        </p:spPr>
      </p:pic>
      <p:sp>
        <p:nvSpPr>
          <p:cNvPr id="262" name="Line 1030"/>
          <p:cNvSpPr/>
          <p:nvPr/>
        </p:nvSpPr>
        <p:spPr>
          <a:xfrm>
            <a:off x="2124000" y="1901880"/>
            <a:ext cx="3264120" cy="536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Line 1031"/>
          <p:cNvSpPr/>
          <p:nvPr/>
        </p:nvSpPr>
        <p:spPr>
          <a:xfrm>
            <a:off x="1879560" y="3544920"/>
            <a:ext cx="3603600" cy="106668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Line 1035"/>
          <p:cNvSpPr/>
          <p:nvPr/>
        </p:nvSpPr>
        <p:spPr>
          <a:xfrm>
            <a:off x="1552680" y="2612880"/>
            <a:ext cx="4190760" cy="35892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7518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New and Changed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are now ready to estimate new and chang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 = 135.  Wh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 we determine the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Workshee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0440" y="1460520"/>
            <a:ext cx="3989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BE worksheet simplifies the size-estimating proc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helps students to select the best estimating metho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A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stimated object LO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B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stimated new and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ng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C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Aver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61880" indent="-333360">
              <a:buClr>
                <a:srgbClr val="ffffff"/>
              </a:buClr>
              <a:buFont typeface="Arial"/>
              <a:buChar char="D"/>
              <a:tabLst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Engineering jud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68112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11800" y="1460520"/>
            <a:ext cx="3703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rksheet calcul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and time estim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ression parame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tion interv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ions are based on historical data from the project plan summary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3" descr=""/>
          <p:cNvPicPr/>
          <p:nvPr/>
        </p:nvPicPr>
        <p:blipFill>
          <a:blip r:embed="rId1"/>
          <a:stretch/>
        </p:blipFill>
        <p:spPr>
          <a:xfrm>
            <a:off x="1643040" y="2050920"/>
            <a:ext cx="6261120" cy="41497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Workshee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64840" y="2813040"/>
            <a:ext cx="95796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436760" y="304488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239040" y="5288040"/>
            <a:ext cx="12841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gressio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ine plot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407960" y="5629320"/>
            <a:ext cx="117648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5284440" y="1527120"/>
            <a:ext cx="354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torical data with outlier 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6227640" y="1797120"/>
            <a:ext cx="1800" cy="53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64840" y="2271600"/>
            <a:ext cx="95796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ecto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1494000" y="2654280"/>
            <a:ext cx="22356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2930040" y="1511280"/>
            <a:ext cx="2128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E calculation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4070520" y="1849320"/>
            <a:ext cx="1440" cy="53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542520" y="4325760"/>
            <a:ext cx="9914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f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Line 19"/>
          <p:cNvSpPr/>
          <p:nvPr/>
        </p:nvSpPr>
        <p:spPr>
          <a:xfrm>
            <a:off x="1436760" y="461340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Line 20"/>
          <p:cNvSpPr/>
          <p:nvPr/>
        </p:nvSpPr>
        <p:spPr>
          <a:xfrm>
            <a:off x="1436760" y="3828960"/>
            <a:ext cx="257040" cy="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21"/>
          <p:cNvSpPr/>
          <p:nvPr/>
        </p:nvSpPr>
        <p:spPr>
          <a:xfrm flipV="1">
            <a:off x="1438200" y="3295440"/>
            <a:ext cx="0" cy="53316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22"/>
          <p:cNvSpPr/>
          <p:nvPr/>
        </p:nvSpPr>
        <p:spPr>
          <a:xfrm flipH="1">
            <a:off x="7148160" y="1797120"/>
            <a:ext cx="412920" cy="79524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Data T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0288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ical data table contains the data for the PROBE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come from the summary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5249880" y="1511280"/>
            <a:ext cx="29052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Method Calcul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alculation table contains parameters generated for each of the methods A, B, C, and 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elation (R-squar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cept (Beta 0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lope (Beta 1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tion ran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P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 dev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these parameters to determine which method to us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30" descr=""/>
          <p:cNvPicPr/>
          <p:nvPr/>
        </p:nvPicPr>
        <p:blipFill>
          <a:blip r:embed="rId1"/>
          <a:stretch/>
        </p:blipFill>
        <p:spPr>
          <a:xfrm>
            <a:off x="4800600" y="2219400"/>
            <a:ext cx="42102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"/>
          <p:cNvPicPr/>
          <p:nvPr/>
        </p:nvPicPr>
        <p:blipFill>
          <a:blip r:embed="rId1"/>
          <a:stretch/>
        </p:blipFill>
        <p:spPr>
          <a:xfrm>
            <a:off x="2562120" y="3914640"/>
            <a:ext cx="5265720" cy="2676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gression Line Plo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5480" y="1514160"/>
            <a:ext cx="7410600" cy="22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line plots graphically depict the correlation between estimated size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plots will help you to select the method that provides the best correlation and will help with the identification of outliers in your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830160" y="4317840"/>
            <a:ext cx="14353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ots are based on the method selec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Line 12"/>
          <p:cNvSpPr/>
          <p:nvPr/>
        </p:nvSpPr>
        <p:spPr>
          <a:xfrm flipV="1">
            <a:off x="2219400" y="4482720"/>
            <a:ext cx="1109520" cy="2682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7" descr=""/>
          <p:cNvPicPr/>
          <p:nvPr/>
        </p:nvPicPr>
        <p:blipFill>
          <a:blip r:embed="rId1"/>
          <a:stretch/>
        </p:blipFill>
        <p:spPr>
          <a:xfrm>
            <a:off x="5432400" y="2090880"/>
            <a:ext cx="2876400" cy="3066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utlier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548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 process evolves, some early data may need to be discar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data may also contain outliers that represent extreme or unusual circumst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may be removed by selecting the project number in the outlier contr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5821200" y="1533600"/>
            <a:ext cx="1575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utlier contro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6659640" y="1835280"/>
            <a:ext cx="966600" cy="110016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7743960" y="1301760"/>
            <a:ext cx="13618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ject 3 is an outli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4" name="Line 14"/>
          <p:cNvSpPr/>
          <p:nvPr/>
        </p:nvSpPr>
        <p:spPr>
          <a:xfrm flipH="1">
            <a:off x="7911720" y="3529080"/>
            <a:ext cx="515880" cy="1440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Line 16"/>
          <p:cNvSpPr/>
          <p:nvPr/>
        </p:nvSpPr>
        <p:spPr>
          <a:xfrm flipV="1">
            <a:off x="8421840" y="1939680"/>
            <a:ext cx="0" cy="1593720"/>
          </a:xfrm>
          <a:prstGeom prst="line">
            <a:avLst/>
          </a:prstGeom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3" descr=""/>
          <p:cNvPicPr/>
          <p:nvPr/>
        </p:nvPicPr>
        <p:blipFill>
          <a:blip r:embed="rId1"/>
          <a:stretch/>
        </p:blipFill>
        <p:spPr>
          <a:xfrm>
            <a:off x="5883120" y="1587600"/>
            <a:ext cx="2038680" cy="4352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28440" y="15015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ject drop-down control selects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hod selectors are provided for both size and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Method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object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new 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veraging method usin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ed new an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dgement is used in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estimate new and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4"/>
          <p:cNvSpPr/>
          <p:nvPr/>
        </p:nvSpPr>
        <p:spPr>
          <a:xfrm>
            <a:off x="2108160" y="2844720"/>
            <a:ext cx="4241880" cy="52092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3035160" y="2844720"/>
            <a:ext cx="3276720" cy="1613160"/>
          </a:xfrm>
          <a:prstGeom prst="line">
            <a:avLst/>
          </a:prstGeom>
          <a:ln w="255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28800" y="1514160"/>
            <a:ext cx="43797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thod selection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:  Use method A if R^2 is &gt; .5, and B1 is between .5 and 2.0, and B0 is small relative to the estimat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:  Use method B if R^2 is &gt; .5, and B1 is between .5 and 2.0, and B0 is small relative to the estimat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:  Use method C when you have data but method A and B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:  Use method D when you have no reliabl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997600" y="1530360"/>
            <a:ext cx="2038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50800"/>
            <a:ext cx="7855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, you will know how to use the size estimate and PROBE worksheets to prepare estimates of program size an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 and Method Selector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28440" y="1514160"/>
            <a:ext cx="42656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method selection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:  Use method A if R^2 is &gt; .5, and B1 is near your min./LOC, and B0 is small relative to the estimate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:  Use method B if R^2 is &gt; .5, and B1 is near your min./LOC, and B0 is small relative to the estimate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:  Use method C when you have data but method A and B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:  Use method D when you have no reliabl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5880240" y="1536840"/>
            <a:ext cx="20383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9" descr=""/>
          <p:cNvPicPr/>
          <p:nvPr/>
        </p:nvPicPr>
        <p:blipFill>
          <a:blip r:embed="rId1"/>
          <a:stretch/>
        </p:blipFill>
        <p:spPr>
          <a:xfrm>
            <a:off x="5516640" y="1530360"/>
            <a:ext cx="2038320" cy="43527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Transfer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stimate transfer control moves the estimate from the PROBE worksheet to the size estimat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stimate is transferred to the size estimating template for the project selected by the project selecto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Arial"/>
              </a:rPr>
              <a:t>Make certain that you select the correct project before you transfer the estimate!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5"/>
          <p:cNvSpPr/>
          <p:nvPr/>
        </p:nvSpPr>
        <p:spPr>
          <a:xfrm>
            <a:off x="5405400" y="4905360"/>
            <a:ext cx="2195640" cy="93024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Freeform 8"/>
          <p:cNvSpPr/>
          <p:nvPr/>
        </p:nvSpPr>
        <p:spPr>
          <a:xfrm>
            <a:off x="3959280" y="2832120"/>
            <a:ext cx="2050920" cy="1020600"/>
          </a:xfrm>
          <a:custGeom>
            <a:avLst/>
            <a:gdLst/>
            <a:ahLst/>
            <a:rect l="l" t="t" r="r" b="b"/>
            <a:pathLst>
              <a:path w="1292" h="643">
                <a:moveTo>
                  <a:pt x="0" y="551"/>
                </a:moveTo>
                <a:cubicBezTo>
                  <a:pt x="245" y="597"/>
                  <a:pt x="491" y="643"/>
                  <a:pt x="706" y="551"/>
                </a:cubicBezTo>
                <a:cubicBezTo>
                  <a:pt x="921" y="459"/>
                  <a:pt x="1106" y="229"/>
                  <a:pt x="1292" y="0"/>
                </a:cubicBezTo>
              </a:path>
            </a:pathLst>
          </a:custGeom>
          <a:noFill/>
          <a:ln w="2556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7280" y="5601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ducing the Size and Time Estimat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28800" y="1501560"/>
            <a:ext cx="2070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produce size and time estimates, follow these step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212720" y="1539720"/>
            <a:ext cx="412596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size estimat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jec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the base, modified, and deleted LO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 the base additions, new objects, and reuse LO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PROBE workshe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the calculation table to determine which estimating method to use for size and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method for siz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the method for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he transfer button to move your estimate back to the size estimating templat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7"/>
          <p:cNvSpPr/>
          <p:nvPr/>
        </p:nvSpPr>
        <p:spPr>
          <a:xfrm>
            <a:off x="3036960" y="1474920"/>
            <a:ext cx="1233360" cy="615960"/>
          </a:xfrm>
          <a:prstGeom prst="rightArrow">
            <a:avLst>
              <a:gd name="adj1" fmla="val 50000"/>
              <a:gd name="adj2" fmla="val 50058"/>
            </a:avLst>
          </a:prstGeom>
          <a:gradFill rotWithShape="0">
            <a:gsLst>
              <a:gs pos="0">
                <a:srgbClr val="000000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 Step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28440" y="1501560"/>
            <a:ext cx="7854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project 4 and method C for both size and time on the PROB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predicted siz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is compare with the estim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LOC/minute ra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er the estimate to the size estimating template and recheck the estimate the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plan summary.  What do you se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, select the size estimate worksheet and delete all of the data that you ente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01720" y="1450800"/>
            <a:ext cx="784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worksheet will help you to select the appropriate estimating method for program size and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worksheet gene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on interv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500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eps in the PROBE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811800" y="1441440"/>
            <a:ext cx="7071840" cy="4755240"/>
            <a:chOff x="811800" y="1441440"/>
            <a:chExt cx="7071840" cy="4755240"/>
          </a:xfrm>
        </p:grpSpPr>
        <p:sp>
          <p:nvSpPr>
            <p:cNvPr id="163" name="Rectangle 3"/>
            <p:cNvSpPr/>
            <p:nvPr/>
          </p:nvSpPr>
          <p:spPr>
            <a:xfrm>
              <a:off x="3421080" y="1441440"/>
              <a:ext cx="1187640" cy="490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ceptu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ign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4" name="Line 4"/>
            <p:cNvSpPr/>
            <p:nvPr/>
          </p:nvSpPr>
          <p:spPr>
            <a:xfrm>
              <a:off x="4014720" y="195732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>
              <a:off x="1685880" y="2201760"/>
              <a:ext cx="4675320" cy="846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dentify and size object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973520" y="2506680"/>
              <a:ext cx="10393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umber of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ethod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3116520" y="2473200"/>
              <a:ext cx="723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4140360" y="2490840"/>
              <a:ext cx="85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lativ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5360400" y="2522520"/>
              <a:ext cx="10317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eus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ategorie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2992680" y="3379680"/>
              <a:ext cx="2044440" cy="587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 other LOC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>
              <a:off x="3002040" y="4254480"/>
              <a:ext cx="2028960" cy="549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am siz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2" name="Rectangle 12"/>
            <p:cNvSpPr/>
            <p:nvPr/>
          </p:nvSpPr>
          <p:spPr>
            <a:xfrm>
              <a:off x="3008520" y="5089680"/>
              <a:ext cx="2012760" cy="52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cul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diction interv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Line 13"/>
            <p:cNvSpPr/>
            <p:nvPr/>
          </p:nvSpPr>
          <p:spPr>
            <a:xfrm>
              <a:off x="4014720" y="48290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4014720" y="5643720"/>
              <a:ext cx="0" cy="25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Rectangle 15"/>
            <p:cNvSpPr/>
            <p:nvPr/>
          </p:nvSpPr>
          <p:spPr>
            <a:xfrm>
              <a:off x="3270960" y="5872320"/>
              <a:ext cx="14922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ze estimat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5854680" y="4253040"/>
              <a:ext cx="2028960" cy="549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stim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5861160" y="5089680"/>
              <a:ext cx="2011320" cy="528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culat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diction interval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Line 18"/>
            <p:cNvSpPr/>
            <p:nvPr/>
          </p:nvSpPr>
          <p:spPr>
            <a:xfrm>
              <a:off x="6838920" y="48290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Line 19"/>
            <p:cNvSpPr/>
            <p:nvPr/>
          </p:nvSpPr>
          <p:spPr>
            <a:xfrm>
              <a:off x="5042160" y="4511520"/>
              <a:ext cx="425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20"/>
            <p:cNvSpPr/>
            <p:nvPr/>
          </p:nvSpPr>
          <p:spPr>
            <a:xfrm>
              <a:off x="5853600" y="5859360"/>
              <a:ext cx="20088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ource estimat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Line 21"/>
            <p:cNvSpPr/>
            <p:nvPr/>
          </p:nvSpPr>
          <p:spPr>
            <a:xfrm>
              <a:off x="6813720" y="5616720"/>
              <a:ext cx="0" cy="25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4013280" y="4000680"/>
              <a:ext cx="1440" cy="22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4013280" y="3057480"/>
              <a:ext cx="1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24"/>
            <p:cNvSpPr/>
            <p:nvPr/>
          </p:nvSpPr>
          <p:spPr>
            <a:xfrm>
              <a:off x="2904840" y="149544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1152360" y="238428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26"/>
            <p:cNvSpPr/>
            <p:nvPr/>
          </p:nvSpPr>
          <p:spPr>
            <a:xfrm>
              <a:off x="2447640" y="347652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27"/>
            <p:cNvSpPr/>
            <p:nvPr/>
          </p:nvSpPr>
          <p:spPr>
            <a:xfrm>
              <a:off x="2447640" y="432756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28"/>
            <p:cNvSpPr/>
            <p:nvPr/>
          </p:nvSpPr>
          <p:spPr>
            <a:xfrm>
              <a:off x="2447640" y="517860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Rectangle 29"/>
            <p:cNvSpPr/>
            <p:nvPr/>
          </p:nvSpPr>
          <p:spPr>
            <a:xfrm>
              <a:off x="5435640" y="4376880"/>
              <a:ext cx="37476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30"/>
            <p:cNvSpPr/>
            <p:nvPr/>
          </p:nvSpPr>
          <p:spPr>
            <a:xfrm>
              <a:off x="5433840" y="5191200"/>
              <a:ext cx="375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.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31"/>
            <p:cNvSpPr/>
            <p:nvPr/>
          </p:nvSpPr>
          <p:spPr>
            <a:xfrm>
              <a:off x="811800" y="1442880"/>
              <a:ext cx="78804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1832040" y="1685880"/>
              <a:ext cx="8492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Workshee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28440" y="1501560"/>
            <a:ext cx="7651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ent workbook includes two worksheets for estima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:  a PSP size-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:  an estimating tool based on the PROB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pen your student workbook and select the size estimat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Workshee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440" y="1514160"/>
            <a:ext cx="363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ksheet automates the preparation of size estimating templ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s are included for exercises 4A through 10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 marks and/or shaded fields indicate student-supplied data; other cells are lo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rcRect l="18213" t="0" r="5202" b="0"/>
          <a:stretch/>
        </p:blipFill>
        <p:spPr>
          <a:xfrm>
            <a:off x="4964040" y="1419120"/>
            <a:ext cx="3738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4078440" y="1440000"/>
            <a:ext cx="4781520" cy="5114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Control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12520" y="1447920"/>
            <a:ext cx="2778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project drop-down control to select a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cut menus (right mouse click) provide context sensitive input for the type and rel. size fiel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ze and time estimates are transferred from the PROBE workshe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rc 5"/>
          <p:cNvSpPr/>
          <p:nvPr/>
        </p:nvSpPr>
        <p:spPr>
          <a:xfrm>
            <a:off x="2971800" y="2166840"/>
            <a:ext cx="1333440" cy="93600"/>
          </a:xfrm>
          <a:custGeom>
            <a:avLst/>
            <a:gdLst/>
            <a:ahLst/>
            <a:rect l="l" t="t" r="r" b="b"/>
            <a:pathLst>
              <a:path fill="none" w="28897" h="21600">
                <a:moveTo>
                  <a:pt x="28897" y="12590"/>
                </a:moveTo>
                <a:cubicBezTo>
                  <a:pt x="24840" y="18245"/>
                  <a:pt x="18306" y="21599"/>
                  <a:pt x="11346" y="21600"/>
                </a:cubicBezTo>
                <a:cubicBezTo>
                  <a:pt x="7338" y="21600"/>
                  <a:pt x="3410" y="20485"/>
                  <a:pt x="-1" y="18380"/>
                </a:cubicBezTo>
              </a:path>
              <a:path stroke="0" w="28897" h="21600">
                <a:moveTo>
                  <a:pt x="28897" y="12590"/>
                </a:moveTo>
                <a:cubicBezTo>
                  <a:pt x="24840" y="18245"/>
                  <a:pt x="18306" y="21599"/>
                  <a:pt x="11346" y="21600"/>
                </a:cubicBezTo>
                <a:cubicBezTo>
                  <a:pt x="7338" y="21600"/>
                  <a:pt x="3410" y="20485"/>
                  <a:pt x="-1" y="18380"/>
                </a:cubicBezTo>
                <a:lnTo>
                  <a:pt x="11346" y="0"/>
                </a:lnTo>
                <a:lnTo>
                  <a:pt x="28897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Arc 9"/>
          <p:cNvSpPr/>
          <p:nvPr/>
        </p:nvSpPr>
        <p:spPr>
          <a:xfrm>
            <a:off x="3540240" y="5661000"/>
            <a:ext cx="1247760" cy="208080"/>
          </a:xfrm>
          <a:custGeom>
            <a:avLst/>
            <a:gdLst/>
            <a:ahLst/>
            <a:rect l="l" t="t" r="r" b="b"/>
            <a:pathLst>
              <a:path fill="none" w="17551" h="21600">
                <a:moveTo>
                  <a:pt x="17551" y="12590"/>
                </a:moveTo>
                <a:cubicBezTo>
                  <a:pt x="13494" y="18245"/>
                  <a:pt x="6960" y="21599"/>
                  <a:pt x="0" y="21600"/>
                </a:cubicBezTo>
              </a:path>
              <a:path stroke="0" w="17551" h="21600">
                <a:moveTo>
                  <a:pt x="17551" y="12590"/>
                </a:moveTo>
                <a:cubicBezTo>
                  <a:pt x="13494" y="18245"/>
                  <a:pt x="6960" y="21599"/>
                  <a:pt x="0" y="21600"/>
                </a:cubicBezTo>
                <a:lnTo>
                  <a:pt x="0" y="0"/>
                </a:lnTo>
                <a:lnTo>
                  <a:pt x="17551" y="12590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7280" y="5094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e Control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28440" y="1501560"/>
            <a:ext cx="2949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tion page is provided fo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totals on this page are included in page one tot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page includes the default C++ LOC per method table from the textbo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103640" y="1495440"/>
            <a:ext cx="4781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blem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139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will use the following problem to illustrate the PROBE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statement:  Develop a simple event-driven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42:16Z</dcterms:created>
  <dc:creator>Jim Over</dc:creator>
  <dc:description/>
  <dc:language>en-US</dc:language>
  <cp:lastModifiedBy>wrn_loc_adm</cp:lastModifiedBy>
  <cp:lastPrinted>2000-03-02T19:50:00Z</cp:lastPrinted>
  <dcterms:modified xsi:type="dcterms:W3CDTF">2018-09-06T00:16:55Z</dcterms:modified>
  <cp:revision>71</cp:revision>
  <dc:subject/>
  <dc:title>No Slide Title</dc:title>
</cp:coreProperties>
</file>